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58F5-F098-4CA5-BE54-241B07B20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31F6-E33E-4D61-A127-E791B036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3287-1345-4B98-91D3-1612F5A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14CD-F434-4FA2-AB4E-184470F198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B97E-A341-4D2B-8807-B121B53D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51D4-FF5D-4E1C-9392-FB9B0607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1C8D-F70C-458B-8EE4-E60EEE4E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6777-4F74-43BF-B68D-7123FFCF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DFFA-31CE-4783-ACC7-BA41CC20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2740-EDB3-4DD9-A0F8-2FB95BC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0961-7732-400F-9F03-B19A95B8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D932-22E4-48FB-841A-C019F895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E0C0-6CD9-47A7-959F-69D405FDD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1231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Fun Side of Delphi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pisode 1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o Cantù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un with the Web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bMeasles revisit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ealing sit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iggy-backing on Yaho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Let the Mail be with You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il messages as year 2000 status symb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y other email addicts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ow about a mail stats program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 to improv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bscribe to useless mailing lis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a useless mail generato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eb Bas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n your machine (or that of a friend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un with the Delphi ID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5 for Windows 3.1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5 for other OS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5 for Christma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CustomModule frenzin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etVerbCount, GetVerb, ExecuteVerb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alidateCompon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st from the past: the Alpha Men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we need one? I doub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you have questions? I hope no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eep your questions fo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Meet the Team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arco Cantù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author, Mastering Delphi 5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Delphi Developers Handb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iner, speaker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lphi OOP Applied” post-conferenc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ing real talks as well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ve fu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pisode 1: The “Madness” Men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(Doesn’t fully match the paper, but who cares?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y and Wh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nsense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less progra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rmful coding pract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session for “geeks”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rite complex code to solve simple task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e http://www.marcocantu.com/funsid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 past editions, code and a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Noth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rst component of the original Fun Side of Delph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e it running on Linux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w improved version: TFunAbsolutelyNoth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iding component na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dding a secret useless cod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EveryThingButTheKitchenSink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ensions of last year dataset plus data source compon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w also provides an embedded user interfa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 entire program in a compon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great step towards zero-flexib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where’s the kitchen sink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rom Sheeps to Cow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heeps revisit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You know, people even make money out of this stuf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ing Matild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ritten in Delph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uthors were paid and built a framewor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rom cows to mad c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un Side of Datase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directory-based datas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unds too serious? What about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 “infinite” datas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un with Win2000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AnimateWindow AP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Works also on 98, and you save the mone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mmering” Windows progra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000 Windows agai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t’s try it out on Linux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0:12:48Z</dcterms:created>
  <dc:creator>Marco Cantù rev</dc:creator>
  <dc:description/>
  <dc:language>en-US</dc:language>
  <cp:lastModifiedBy>Marco Cantù</cp:lastModifiedBy>
  <cp:lastPrinted>1998-04-22T20:30:46Z</cp:lastPrinted>
  <dcterms:modified xsi:type="dcterms:W3CDTF">2000-07-10T23:58:16Z</dcterms:modified>
  <cp:revision>37</cp:revision>
  <dc:subject/>
  <dc:title>3136 Object Pascal for  C++Builder Programmers</dc:title>
</cp:coreProperties>
</file>