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E914-3B65-4674-AFE7-3CAB5A488C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457C1-9F0E-49D6-8D6B-F7C894ED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16C4-7795-4501-A43E-B5278B00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40A5-43EF-4B24-8B52-1772BA2740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3051-7B69-463A-A19C-BE1E7AA2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F694-72C2-4ECA-B6A8-A88EC09A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6FD65-3075-4801-8364-9763EC55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4E4B7-AD28-459A-8C5D-AD3F43C5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260D4-7338-4C3E-BDCA-0F596BE2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0A11-2007-4E48-8F09-A873A603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9D44-DC3F-4C87-B831-FA8C4118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C3DEF-5D71-49CF-8DBD-EEB84DAE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686800" cy="1371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304280" indent="-26208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7521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9160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310D-8FDE-4C92-A610-1C7A7DEA1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276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indent="138240" algn="ctr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indent="16992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indent="5544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3214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Using Object Pascal in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++Builder Application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o Cantù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ww.marcocantu.co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ass References (1)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type holding a cla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ierarchy based type system (type compatibility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nipulate classes at runti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e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TMetaclas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and the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TClas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pointer in C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defined in the VCL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Class, ExceptClass, TComponentClas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FormClass, TFieldClass, TControlClass..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ass References (2)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s parameters (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Application.CreateForm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ll class methods, including virtual o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objects construc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ynamic objects constru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Class.Create (…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irtual constructor cal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hat the system does creating objec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m the DF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heritanc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ngle inheritan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mon base class,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TObjec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ngle huge hierarchy tre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arly binding is defaul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ate binding with virtual and dynamic directiv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stances of abstract classes allowed (but…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Properti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irtual data fields, mapped to data or metho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ngle notation, translated by the compil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capsulation to the max (don’t know what’s behind, can change i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rray properties, default (not supported in CB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ublished (design-time, RTTI support, OI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vents: properties with a method pointer type (closures in CB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RTTI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a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operator (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dynamic_cast in C++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operator (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TObject.InheritsFrom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in CB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tended RTTI available TPersistent-derived classes (or compiler optio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ublished: default visibil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source of all the goodies: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TypInfo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uni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treaming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a copy of the object’s data in memor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tus of the object = its published properti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aves (in a DFM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ublished properties and ev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n-default values, non stored fal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tra entries (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DefineProperties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l references turned to names, fixed-up after reload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Using TObjec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e class, type means any objec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nder, cast with as before us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w interesting metho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stanceSize, ClassName, ClassType, ClassParent…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pport for published fields and metho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terfac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rface = purely abstract cla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 data, all methods virtual abstract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perties mapped to method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herit IUnknown, must have IID (for querying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ach class: Single base class + multiple interfa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ference counting (see also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TInterfacedObjec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egate implementation to sub-objec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t only for COM..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indows Support Keyword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sourcestring directiv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stant string mapped into RES fi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essage handl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essage directive, followed by numb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 need to use message maps built with macr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essage “cracker” record structur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haring Source Cod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e way only: Pascal code in C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nits with functions, types, class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orting creates a translated C++ header fi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nits with form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imited editing of DFM, use with form inherit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onents (very common, VCL included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ternative: compile Pascal code to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OBJ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Marco Cantù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phi author, Mastering Delphi 5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 Delphi Developers Handbo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++ author, Borland C++  4.0 and OWL 2.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ainer, speaker..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ct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ww.marcocantu.c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rco@marcocantu.c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ewsgroups (see web site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tegrating Compiled Modul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n use DLLs, COM, Automation (including MIDAS), and many other standard techniqu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st Borland-only approach: share packag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lies sharing standard packages between exe and libra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ery good also for single language only 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ust be compiled in CB to generate extra support fil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d for components, but also for form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nclus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P and C++: same root, many subtle differen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P has Java influence (common ancesto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++Builder is a mix-in of OP and C++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TW, C++Builder includes an OP compiler for free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e together? Source and packag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s a cross-language project really worth the effort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Q&amp;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el free to use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ww.marcocantu.com/home/newsgroups.ht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dvertising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dvanced Object Pascal in post-conference cla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roduction: Why Bother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bject Pascal vs. C++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Object Reference Mod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heritance and Interfa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indows Support Keywo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haring Source Cod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grating Compiled Modul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troduction: Why Bother?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VCL is built in OP (language influenced design, and vice verse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anguage and library are almost mixed (where does TObject pertains? where TPersistent?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ascal RTTI is core for visual programming (properties, objects streaming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++Builder C++ extensions come from O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Object Pascal vs. C++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mon: OOP, strong typing, efficiency bia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++: more control, more complex, templates, widesprea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P: simpler, more readable, tuned for visual programm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Paper on my site comparing C++, OP, and Jav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Base Differenc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umerated and set types (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Se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template in CB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ative string type (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AnsiString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class in CB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ynamic, long, reference-counted, copied-on-wri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ative variants (a class in CB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nits: encapsulation and namespace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CU files: OBJ + symbo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horter compile and link ti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ersion specifi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Object Reference Model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bjects are are referen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l objects are allocated on the hea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ame in C++Builder for VCL-based objec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niform access, all parameters are referen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 copy constructors, assignment operato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irtual method calls for every objec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blem: Create and destroy each objec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Memory Manage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rect and manual creation and destru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reate, Free, Assigned, := nil (FreeAndNi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onents Ownership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reate (AOwner), TComponent.Destr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ference Count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ring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ynamic arrays(D4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rface objec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nstructor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structor keywor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ultiple multiple constructo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ndard name is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Creat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fferent order for base class constructor cal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27640" indent="-307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P: you decide in code, derived to base cla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27640" indent="-307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++: compulsory, base class to derived cla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27640" indent="-307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++Builder: a mix-in of the two styl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lution: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 AfterConstru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8T10:12:48Z</dcterms:created>
  <dc:creator>Marco Cantù rev</dc:creator>
  <dc:description/>
  <dc:language>en-US</dc:language>
  <cp:lastModifiedBy>Marco Cantù</cp:lastModifiedBy>
  <cp:lastPrinted>1998-04-22T20:30:46Z</cp:lastPrinted>
  <dcterms:modified xsi:type="dcterms:W3CDTF">2000-07-11T17:48:52Z</dcterms:modified>
  <cp:revision>24</cp:revision>
  <dc:subject/>
  <dc:title>3136 Object Pascal for  C++Builder Programmers</dc:title>
</cp:coreProperties>
</file>