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9342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97CBE-85E6-4B44-A784-54812801068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5EEAB-B5BA-46EC-86D3-A10A1BA3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9F184-9317-4164-81C1-E84D2016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371ED-D842-4A08-BDA9-8F8AC72E2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408E3-91BA-4F28-9686-EC43E765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82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06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82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06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D811-B2A9-4D2F-A726-BC800731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4FD2-8B29-4B16-9F3B-5C755787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D20E-2017-44F0-BF30-853CD55BC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3152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16A7-5462-432E-B9E6-5A27F775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B9D6E-7F30-4451-8403-936FFA709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28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4F994-A1CB-4994-A2EF-A71CDAFD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28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C1BF0-0925-4214-AB82-DB8E862D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1063-8976-4A50-83A8-2C636771C2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Logo_k" descr=""/>
          <p:cNvPicPr/>
          <p:nvPr/>
        </p:nvPicPr>
        <p:blipFill>
          <a:blip r:embed="rId3"/>
          <a:stretch/>
        </p:blipFill>
        <p:spPr>
          <a:xfrm>
            <a:off x="7715160" y="5819760"/>
            <a:ext cx="1428840" cy="1038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indent="13824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indent="1699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indent="5544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 indent="554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3258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elcome to Linux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 Guide for Win32 Programm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rco Cantù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older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dev = device dri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mnt = mounted de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home/myname = user’s files (also /roo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bin = commands et al (also in /usr/bi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boot: kernel and boot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 etc = system configu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/dev/null = a black ho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o You Need a Command Line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ll, you’ll need it, even if you are for graphic shells and file manag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nk of a “DOS on steroids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ultiple shells (“bash” is the most common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AB does word comple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mands can spawn separate processes (but you have to ask for it with “&amp;”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n Command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d” = go ho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ss” is “mor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ctr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s -l” (/etc/.DIR_COLOR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XWind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X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lient / server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erver is the display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lient is the program sending commands to the s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twork oriented, socket bas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x” command, but can be configured to start automatically, and offer you a graphical boo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KDE and GNOM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KDE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 Desktop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ore Windows-like look and feel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uilt with Qt (C++ orient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NOM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GNU Network Object Model Environ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found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tally built with open source code (C oriented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-existing with Window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T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amba (watch out for Win2K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Programming…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ait for Kylix, don’t try it now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bject Pascal and Linux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se” of a clash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et’s try out: unit names, uses cases, resource extension cases… looks almost as bad a C++!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y low level differences, looks familiar on top of the VCL/CLX (or I’m told it will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nclus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rt experimenting ASA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200$ and you are in busin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th vmware plus a distribu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you have a spare computer (even if old), turn it into an actual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et your friends know: we need more people to compete with MS!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Q&amp;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Questions? I’ll hardly know the answers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eel free to use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/home/newsgroups.htm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Advertising: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Advanced Object Pascal in post-conference clas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Marco Cantù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lphi author, Mastering Delphi 5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Delphi Developers Handbook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nux novice”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iner, speaker..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ct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ww.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rco@marcocantu.co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ewsgroups (see web site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rst step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roaching Linux… in different way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ew Key Concep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need a command line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XWindows and KDE (and Qt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-existing with Window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gramming…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                                 </a:t>
            </a:r>
            <a:r>
              <a:rPr b="1" i="1" lang="en-US" sz="3200" spc="-1" strike="noStrike">
                <a:solidFill>
                  <a:srgbClr val="ffffff"/>
                </a:solidFill>
                <a:latin typeface="Arial Narrow"/>
              </a:rPr>
              <a:t>(not very technical…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y Linux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want to hear the story again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free (more or les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growing fa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55000" indent="-31752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ndows cannot grow so much having 95% of the desktop OS mark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’s not from Microsoft, so it won’t ever cras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9480" indent="-429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d so on… I believe this Linux “marketing”, I’m just hearing it too muc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irst Step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hoose a distrib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you don’t want to compile the Kernel, do you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dHat, SuSE, Mandrake, Debian, TurboLinux,Corel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wo operating systems are better then o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other words, look into VMW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nd a friend who knows… but then don’t trust hi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KISS doesn’t always apply for Linux die-hear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79440" indent="-379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ood hardware doesn’t harm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54920" indent="-2804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pecifically for VMWare..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roaching Linux…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nd your goal fir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o you want to learn everything about Linux first?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f you use Windows, and not DOS, choose a desktop environment, not the command lin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-3974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en programs are better than one, but you get los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Having many alternatives is good, but you should learn to live in a different worl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n Source is a different world, and with wide differences inside (from GNU to mild licenses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 Few Key Concep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oot and regular accounts (do you need both?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deamon is like a serv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s by itself and wait for something to happe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zip &amp; tar: compression + concaten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n Fil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les have permiss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ad / write / execute (no EXE, sorry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wner / group / oth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o extension for executable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mbolic links (shortcuts on steroid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lename starting with “.” for hidden config. fil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hared Librari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ike DLLs (more or less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ystem libraries can be used in both ways (not in WIndows!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ip: ldd lists shared libraries required by an EX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arches in /lib, /usr/lib, in LD_LIBRARY_PATH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5160" indent="-425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ersioning: mayor + min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mpatible for “minor” chang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46000" indent="-314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ymbolic links to library vers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18T10:12:48Z</dcterms:created>
  <dc:creator>Marco Cantù rev</dc:creator>
  <dc:description/>
  <dc:language>en-US</dc:language>
  <cp:lastModifiedBy>Marco Cantù</cp:lastModifiedBy>
  <cp:lastPrinted>1998-04-22T20:30:46Z</cp:lastPrinted>
  <dcterms:modified xsi:type="dcterms:W3CDTF">2000-07-12T06:34:00Z</dcterms:modified>
  <cp:revision>26</cp:revision>
  <dc:subject/>
  <dc:title>3136 Object Pascal for  C++Builder Programmers</dc:title>
</cp:coreProperties>
</file>