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5536-B9B4-4160-94C8-C20B153D4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4F83-50C6-4378-B2D9-D98B1B9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054C-0C7E-4088-A347-EB6E3BF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8D4F-227D-4FE0-B4FE-3F3FCB2ABA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2213-5F27-4808-B339-755C89A4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033D-91E2-4F68-B47F-AED4BFD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93F2-7CE3-4659-BA68-BE1B0281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1934-825B-4F1C-9D31-9B032D06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9CB7-B708-48FF-BF04-86C728D7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11FF-122E-4345-A7E2-DDC59E33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A9D5-6F94-4D3E-84FE-77D4238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B5EC-85F8-41B1-A179-3D4F6F0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220-C26C-42D8-A153-F8ED8F927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4106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dvanced VCL Component Build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TFieldDataLin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eld oriented control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ad-only, read-write examp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 link in constructor (+ destructo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pose properties: DataSource, DataField, Fie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le events: OnDataChange, OnUpdateData, OnActiveChange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pdates: send notification, wait for data request, force upd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ustom Data Link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ord-oriented controls (incl. table-oriented one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verride methods instead of handling ev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ong binding with the control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ample: custom grid, one record at a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plication Suppor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 hosting in DbCtrlGri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actual component, multiple fake 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quired step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sReplicatable control sty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le cm_GetDataLink message, returning a pointer to the data li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ustomize Paint (supporting the TPaintControl idea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llec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er of TPersistent objects of a given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herit from TCollectionItem and TColle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ound passing item class to collection construct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verride GetOwner for design-time edit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anged calls Update (to overrid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c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herit from TAction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ndleTarget (whether to activate action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dateTarget (update U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ecuteTarget (do something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gister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pecial last parameter: data module used to clone actions, for default valu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is still a lot more, these are key ele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: custom messages, custom datasets (see talk) Open Tools API (see tal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y little coverage in book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se the source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el free to us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/home/newsgroups.ht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vanced Object Pascal in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und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eaming, Loading, and Statu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-Aware Contro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lle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“Effective OOP in Delphi” post-conf.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 -- marco@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wn newsgroups (see web sit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ound Compon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rnal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 properties / events surfaced by ho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rnal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mply a link, defines intera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s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onent contain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ernal Compon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reated and destroyed by container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ride constructor (and destructo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Persistent objec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be surfaced in propert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vents handled internal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omponent objec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surface specific propertie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vents handled internally or surfac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xternal Compon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ore a reference to another component, surfaced with a proper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ways check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if Assign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ndle destruction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Notific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all FreeNotification (for cross-module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onent Contain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rolStyle: csAcceptsContro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eaming problems when sub-component is owned by contai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ll GetChildren to define sub-stream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-own the components after they’ve been load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reaming, Loading, and Statu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nent and Control have Status and Sty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tus changes over ti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yle is fix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teworthy: csAcceptControls control style, csLoading and csDesigning component stat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aded: after all properties have been load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ustom Streaming: DefineProperties / DefineProper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ata-Aware Contro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nection to data-source through TDataLin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11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i-directional commun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11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rived (ready-to-use) TFieldDataLink for field oriented contr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11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therwise derive your own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434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rface DataSource (and DataFiel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434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(Aside: Notification issue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1T20:24:13Z</dcterms:modified>
  <cp:revision>15</cp:revision>
  <dc:subject/>
  <dc:title>3136 Object Pascal for  C++Builder Programmers</dc:title>
</cp:coreProperties>
</file>